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90262"/>
        <c:axId val="85681501"/>
      </c:barChart>
      <c:catAx>
        <c:axId val="3439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81501"/>
        <c:crosses val="autoZero"/>
        <c:auto val="1"/>
        <c:lblAlgn val="ctr"/>
        <c:lblOffset val="100"/>
        <c:noMultiLvlLbl val="0"/>
      </c:catAx>
      <c:valAx>
        <c:axId val="85681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9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889-D249-47AE-821F-510E9076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9B3-CE77-44B4-A116-FE94509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02C-9132-47DA-9783-57A9FE0C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A7E-9C52-4E4D-9EF0-779123E1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7F5-72EC-42D9-9A1E-7439802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35C-AB22-4C77-AE33-B15300A9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F4E-D210-487B-BC29-7015BE6A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130-F291-4DB9-BB8F-B59CFD5B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848-8DAE-4158-A8D7-0B394900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38E-C71D-43F0-9189-D2AD9AC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C94-C65B-400B-A6ED-5D76142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ACC-57D7-458A-9C93-D238129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881C8-CC59-4677-96E5-1A3C54A6D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