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95123"/>
        <c:axId val="66141075"/>
      </c:barChart>
      <c:catAx>
        <c:axId val="278951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41075"/>
        <c:crosses val="autoZero"/>
        <c:auto val="1"/>
        <c:lblAlgn val="ctr"/>
        <c:lblOffset val="100"/>
        <c:noMultiLvlLbl val="0"/>
      </c:catAx>
      <c:valAx>
        <c:axId val="66141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951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0F5-104E-42C2-99FA-91A4E4A4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081-D57A-476F-85CD-0C526B1D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B276-BBB2-46A4-9A60-ED7690EB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92F-B11C-4B11-8F4D-26EE26AE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487-FBA4-4659-B9D2-1E56D19B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0148-FCFF-4EDB-ABF6-E94DF302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F954-A028-48A0-9464-6F7E213A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05BB-1B84-4388-984F-F5372311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A2F0-534B-462F-B986-A7FF9D5B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BC0-2D96-4EFF-94A0-1BB97073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65B-3339-47BF-AAE5-F15FFA3D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5E8-FE8E-4E0D-A34A-4F1CEBC1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F081F-508F-49FC-A5B8-7B916A102D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