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848609"/>
        <c:axId val="24508447"/>
      </c:barChart>
      <c:catAx>
        <c:axId val="288486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508447"/>
        <c:crosses val="autoZero"/>
        <c:auto val="1"/>
        <c:lblAlgn val="ctr"/>
        <c:lblOffset val="100"/>
        <c:noMultiLvlLbl val="0"/>
      </c:catAx>
      <c:valAx>
        <c:axId val="245084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8486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F195-543E-45B6-BCF9-55EEC3A81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3705-AA18-4899-AEB5-5F61BCA0F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A145-F90D-4724-B4DA-06CA5CD7D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CA08-9C6B-4F4D-BF07-27EFF18DA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2232-B8FB-4AF7-9700-B8CDCB65E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A512-0712-421D-9EF5-D22FB5779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A9B2-5680-4FC3-A8D6-37A397216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4865-D488-4D43-A98B-C13F055D0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0278-2CCF-431D-B392-ABEE8BE12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E8E2-5EF8-41E7-87ED-65ECAD33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0096-598D-4C8F-A048-6D7B7BDD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AB6E-CB45-428B-8F82-F1997A39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98160E-C180-4DCB-9263-01E07533243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