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806579"/>
        <c:axId val="58453368"/>
      </c:barChart>
      <c:catAx>
        <c:axId val="80806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53368"/>
        <c:crosses val="autoZero"/>
        <c:auto val="1"/>
        <c:lblAlgn val="ctr"/>
        <c:lblOffset val="100"/>
        <c:noMultiLvlLbl val="0"/>
      </c:catAx>
      <c:valAx>
        <c:axId val="58453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06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D280-1F57-43CC-8FB9-97BD3F12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0E0-D09B-4511-852A-F7A2D456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9E0-11A4-4AF8-8532-0065317C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3F2-0A68-4366-BB77-6C1A6EDC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674-A1D8-43E5-855E-0F7DEC8D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262B-21C0-4B34-B0B6-7E20ECF4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098A-4793-46F3-B418-800996C2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D23-27F6-4C6D-9BB2-1BE6E4A1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E219-F42A-4828-8E06-1AAF536A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0066-15E7-474D-AE9E-93B80204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0A1-DCC8-4561-8534-547791D6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868-CADA-4062-9568-09A5235E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AA9B7-B9E3-4B32-9D35-44727592E5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