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9101"/>
        <c:axId val="19983877"/>
      </c:barChart>
      <c:catAx>
        <c:axId val="2989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83877"/>
        <c:crosses val="autoZero"/>
        <c:auto val="1"/>
        <c:lblAlgn val="ctr"/>
        <c:lblOffset val="100"/>
        <c:noMultiLvlLbl val="0"/>
      </c:catAx>
      <c:valAx>
        <c:axId val="19983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7D9-493A-4261-8955-10E2A039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DC8-0C6B-4C39-87FE-D28B865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8CF-85A4-4C48-8CC3-E96ED6C5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FB7-5011-473C-AD08-AEED1D7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B24-E123-407C-A956-CCE074DB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F77-913B-4A82-A706-2526C3A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6BC-795A-464B-896D-D98CAB6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5E4-2B10-4223-A19A-4D6B320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3D5-80DF-4E67-BBF2-0B5EE2C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826-A20F-4E73-A034-FFED577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21E-092E-47B1-A878-750CBAA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50F-3CE0-4112-966A-BB936C4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75E9A-55DE-41AA-BB18-7B02B2C8E7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