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17006"/>
        <c:axId val="34825206"/>
      </c:barChart>
      <c:catAx>
        <c:axId val="28017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25206"/>
        <c:crosses val="autoZero"/>
        <c:auto val="1"/>
        <c:lblAlgn val="ctr"/>
        <c:lblOffset val="100"/>
        <c:noMultiLvlLbl val="0"/>
      </c:catAx>
      <c:valAx>
        <c:axId val="34825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17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3E8-FD45-4474-98B2-7506727A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BE2E-B1A6-403F-AA67-AC632794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CA6-E893-48F5-BA85-2770FF1D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7B3-A046-4399-AC9E-4D06C2E6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4B5-6944-4731-9331-17B7DC8F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3E9-F35D-4C79-BAD0-F58B9A83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4C44-A279-4C30-BD3E-887FB373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AA8-7DBA-4F60-BF85-F0763BC5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2E5-1A5A-4E0E-B7EA-D0959756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9AF5-C258-4831-A69A-E6127EFF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0FD-187D-4BC5-B132-B4AB3994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5F3-2477-4954-91CC-AF2BBEAF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D62DA-16C0-4150-B659-C18DBF5EEA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