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94646"/>
        <c:axId val="94553665"/>
      </c:barChart>
      <c:catAx>
        <c:axId val="55194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3665"/>
        <c:crosses val="autoZero"/>
        <c:auto val="1"/>
        <c:lblAlgn val="ctr"/>
        <c:lblOffset val="100"/>
        <c:noMultiLvlLbl val="0"/>
      </c:catAx>
      <c:valAx>
        <c:axId val="94553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94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67A-AF67-46CC-8876-8B70884B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886-3849-42C1-9CDE-32A551B5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54A-AE44-49E8-9ED9-D6AA1B4A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FE0-6C33-4A70-A01B-65BB4613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1E3-80AE-4082-AF33-7251FE1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945-A6EF-4305-A91D-CCD6780F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C7E-F9EB-41B8-B143-5893ED29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0C1-E1B4-4030-BEF8-C64A4435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BF0-FD6F-4DAE-B897-CE1B45C5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090-2C6D-4A81-8812-2FBDB116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7EA-D547-4753-83EF-2C499ED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CC9-AA5B-413D-97F3-CF27627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D2583-4847-4E36-BADC-78B54886B2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