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77771"/>
        <c:axId val="26768441"/>
      </c:barChart>
      <c:catAx>
        <c:axId val="901777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68441"/>
        <c:crosses val="autoZero"/>
        <c:auto val="1"/>
        <c:lblAlgn val="ctr"/>
        <c:lblOffset val="100"/>
        <c:noMultiLvlLbl val="0"/>
      </c:catAx>
      <c:valAx>
        <c:axId val="26768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777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AA4D-07C2-4F07-B9BC-31BA5E95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0B40-D1DB-46EC-BBBE-E5F16191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9FC-2A26-4315-A32A-EFEF6A2B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554-E89F-462F-900C-4ADAF379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CC05-E3C4-4189-8A8B-53F82935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7E3A-318F-4EA3-8EF3-0D12D27D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D3A-08B2-4A31-A994-E41F9878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692E-59CA-4450-BDE4-072C8933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1114-9327-4026-AA32-4472AA07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0D4D-2602-4685-902F-98A20E0A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5AB4-D8B8-4F4F-87BB-3E2B9237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D550-E1FD-44D2-B868-5A2FE089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DB1D8-21C4-4841-AE4C-051BC5D5B6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