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04157"/>
        <c:axId val="18560745"/>
      </c:barChart>
      <c:catAx>
        <c:axId val="99004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60745"/>
        <c:crosses val="autoZero"/>
        <c:auto val="1"/>
        <c:lblAlgn val="ctr"/>
        <c:lblOffset val="100"/>
        <c:noMultiLvlLbl val="0"/>
      </c:catAx>
      <c:valAx>
        <c:axId val="18560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04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5A4-07E4-463E-A37A-2811CC26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B1C-4E2D-460F-BAC8-5F96DDC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362-F0EA-40FA-AE08-49D0E9CF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16E-4838-467D-B7F3-D994C9CF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6F6-C3AC-41C8-BC27-E6930538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A01-8C3C-4BAB-AB96-A0DF4FD3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CDF-BD1F-4E16-A1B7-CB405A01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D6E-7172-4B66-B8F3-02C1C621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D15-225A-4ACF-A50F-7CF2BC85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573-4F7A-4C2A-9287-30CF8F9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B4A-5238-487B-9865-5A33A725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DA7-A833-46F7-B188-2BA1B9AC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373DF-F767-412A-AE45-10E3A0B1AE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