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29378"/>
        <c:axId val="70003845"/>
      </c:barChart>
      <c:catAx>
        <c:axId val="70029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03845"/>
        <c:crosses val="autoZero"/>
        <c:auto val="1"/>
        <c:lblAlgn val="ctr"/>
        <c:lblOffset val="100"/>
        <c:noMultiLvlLbl val="0"/>
      </c:catAx>
      <c:valAx>
        <c:axId val="70003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29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F38-A6EA-41E9-B14E-19D0F74F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EB5-E925-462C-A094-0EAE54A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0D2-2AA7-4C8D-BD30-6C9386E1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BF4-FE50-40C9-BA9C-5C2138CB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D4E-3C34-4FD2-8442-99A7BB80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91D-8F71-482D-B656-30FDE659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9B0-5156-46CF-BF27-AE0BFF44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3AF-0CCA-4FB4-8BEC-2ED57CDC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B3A-4FD6-40C4-9C06-5067E2EF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782-4376-45FD-82DD-9F8BDED0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46D-E001-4EA8-8F06-ED25D1AB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64F-15E9-4562-A151-D6EBE80C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8E4E6-8B55-43E0-A9AB-68E48405C6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