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40151"/>
        <c:axId val="10902638"/>
      </c:barChart>
      <c:catAx>
        <c:axId val="81840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2638"/>
        <c:crosses val="autoZero"/>
        <c:auto val="1"/>
        <c:lblAlgn val="ctr"/>
        <c:lblOffset val="100"/>
        <c:noMultiLvlLbl val="0"/>
      </c:catAx>
      <c:valAx>
        <c:axId val="10902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0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775-9347-47C7-8FFF-3C4CF685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E93-E3D2-4148-84D8-0BB2FE8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587-0C19-4DC0-AF7A-A8AC1463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B3B-7710-4978-A4B7-25A39421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BEB-8651-4C17-90B9-B4FC1F0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B74-54AC-48E4-A61C-E74DAE8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8D9-E71D-4C15-807D-2E0B2BE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069-4FCF-4EBD-A438-F2E7686C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6AE-0AB5-4565-803C-CB4DA7E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AE2-AA48-4C38-B10B-B90ADC5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8A4-2879-467A-91E8-0D7CDF31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0F9-F453-454D-8466-C6D8EAD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87679-CE4C-4A50-B3D1-949216485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