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8362"/>
        <c:axId val="99519949"/>
      </c:barChart>
      <c:catAx>
        <c:axId val="3378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9949"/>
        <c:crosses val="autoZero"/>
        <c:auto val="1"/>
        <c:lblAlgn val="ctr"/>
        <c:lblOffset val="100"/>
        <c:noMultiLvlLbl val="0"/>
      </c:catAx>
      <c:valAx>
        <c:axId val="99519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8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D9E-F8B9-43E7-A5AC-78E94527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DA8-D2F4-4863-8950-22A1AFD4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608-6713-4BE3-9142-BFBFFFBF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ADD-81F1-4834-A6D5-C386074A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897-7813-46E4-9987-349AB0B9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689-83B2-4988-BE81-3FDAD587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ECC-F426-464B-89E0-61BA5E0A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5B8-E948-4425-861C-6372339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ABF-010B-4B9A-9844-1D30731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D0A-3839-458E-9D47-3533CFE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658-EAA5-46BB-8DE3-B4D1119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BE2-F296-4A55-9885-3289DD2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E865A-3CE6-4040-A4C6-7441F4ED7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